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4.gif" ContentType="image/gif"/>
  <Override PartName="/ppt/media/image22.jpeg" ContentType="image/jpeg"/>
  <Override PartName="/ppt/media/image5.jpeg" ContentType="image/jpeg"/>
  <Override PartName="/ppt/media/image8.png" ContentType="image/png"/>
  <Override PartName="/ppt/media/image28.gif" ContentType="image/gif"/>
  <Override PartName="/ppt/media/image3.png" ContentType="image/png"/>
  <Override PartName="/ppt/media/image17.jpeg" ContentType="image/jpeg"/>
  <Override PartName="/ppt/media/image23.gif" ContentType="image/gif"/>
  <Override PartName="/ppt/media/image11.png" ContentType="image/png"/>
  <Override PartName="/ppt/media/image19.jpeg" ContentType="image/jpeg"/>
  <Override PartName="/ppt/media/image27.jpeg" ContentType="image/jpeg"/>
  <Override PartName="/ppt/media/image21.jpeg" ContentType="image/jpeg"/>
  <Override PartName="/ppt/media/image18.jpeg" ContentType="image/jpeg"/>
  <Override PartName="/ppt/media/image15.gif" ContentType="image/gif"/>
  <Override PartName="/ppt/media/image14.gif" ContentType="image/gif"/>
  <Override PartName="/ppt/media/image16.jpeg" ContentType="image/jpeg"/>
  <Override PartName="/ppt/media/for%20Christmas.wav" ContentType="audio/x-wav"/>
  <Override PartName="/ppt/media/image6.png" ContentType="image/png"/>
  <Override PartName="/ppt/media/image26.gif" ContentType="image/gif"/>
  <Override PartName="/ppt/media/image13.jpeg" ContentType="image/jpeg"/>
  <Override PartName="/ppt/media/image24.gif" ContentType="image/gif"/>
  <Override PartName="/ppt/media/image1.gif" ContentType="image/gif"/>
  <Override PartName="/ppt/media/image25.gif" ContentType="image/gif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1EB-D16F-4006-998E-C4A4F5C8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DD4-6B1B-4E1F-A90E-4BE47106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5FE0-1B38-4163-A251-6E7F4932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E7D6-F479-4EA5-9C7E-99FB047D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104AC-E369-4F18-B059-66C472EC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89459-D16A-486E-BC30-85E48AD2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00298-9607-4DF1-901B-276D73F9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E224-6EF9-44EB-AA51-24495B8B8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5C53-9D6A-4885-B725-46F59733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BEC5-E037-4917-B30D-74E03C23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F2491-09AC-49AC-A984-7F18CD53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4866-BA6E-4722-BAE0-79735801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8A8E8-2269-4F4A-A512-461EB744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EAE1-A31F-4457-B326-A738907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086B-C6D2-4E28-B4F9-D7BA64C6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E73F-5CDE-4631-A295-777870F1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CD86-88E6-4AF4-A1F3-A139427C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162A7-8513-4723-A2DD-6DB8D7F4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790C6-32A2-475E-9ABD-03A81A76B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8A5FE-A82B-424C-9C4D-1AE90D18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F88DCF-57EF-487D-BB93-83F16FE0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EA051-5A5C-4CA2-AC88-403068A8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DD5-C354-4298-9A6B-9C2C782D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6C5D6-C8CE-4BD4-B4A4-050DFA93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6B2B-6825-4AF5-8703-3BB993C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5080A-D650-4A12-B70A-BC2B59E4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C9DFB-5B5A-46B2-893C-0C3DF5DC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FFA9-98A7-4DBA-9ECA-5F1E68D4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B03C-69A1-4644-BDFE-FBD073BD1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28CF3-AE84-4E02-BAF9-62BF2EA1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AE746-0595-4CA3-8238-53A1C022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172907-5B43-402A-B675-04B59214A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86F1D-437F-4AC7-828D-D7EE72E9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B05B-805E-4547-94BC-D5187F5D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E00CB-03E2-427F-8F07-9498E23C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CDEA-CC53-47F5-AC8C-39346F5B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E73A-1365-4B5D-9B05-6447FB6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BC08B-3758-4949-B751-FFF9109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8416A-6445-42A5-8F4B-F9D77171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BB2D2-83E6-4916-AB04-B0B60FCF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6868A-D1FA-41F9-9AC0-2DEB311B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9E349-369A-448E-9264-6BD8319D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B6D42-C0C1-4D83-8236-78532A86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3234-77FF-47E1-BB22-0593DE0F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B5A-7728-4010-B494-C84E37D2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FC7-4700-4761-B524-480BC00D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D02-B0A4-4794-B08F-A6CE5836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67B0-2AAA-4E3E-942E-2918536A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4F74-D629-4C77-B9D2-B6A9DDFEEF7E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5EFE-640A-44EC-A2F7-7DEAF36FDAD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35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5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35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grpSp>
            <p:nvGrpSpPr>
              <p:cNvPr id="36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36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36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37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37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8AA-134E-4BA6-9056-AA8A268C7A3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43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43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4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45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45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45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46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46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6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7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A290-5AE9-4695-9939-20732D53762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audio" Target="../media/for%20Christmas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324000" y="1628280"/>
            <a:ext cx="7632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611280" y="189000"/>
            <a:ext cx="77724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l I Want For Christmas Is You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18" name=""/>
          <p:cNvSpPr/>
          <p:nvPr/>
        </p:nvSpPr>
        <p:spPr>
          <a:xfrm>
            <a:off x="250920" y="3357720"/>
            <a:ext cx="8893080" cy="3682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avid.G       Sergio.F       Marcos.B     Anabel.E      Alba.C     Nerea.H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211640" y="4005360"/>
            <a:ext cx="1081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6º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50920" y="479736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6948360" y="4797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dissolve/>
    <p:sndAc>
      <p:stSnd>
        <p:snd r:embed="rId3" name="for%20Christma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I don't want a lot for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There is just one thing I nee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"/>
          <a:stretch/>
        </p:blipFill>
        <p:spPr>
          <a:xfrm>
            <a:off x="1979640" y="2276640"/>
            <a:ext cx="518472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I don't care about presents</a:t>
            </a:r>
            <a:br>
              <a:rPr sz="3200"/>
            </a:br>
            <a:r>
              <a:rPr b="1" lang="es-ES" sz="3200" spc="-1" strike="noStrike">
                <a:solidFill>
                  <a:srgbClr val="66ff33"/>
                </a:solidFill>
                <a:latin typeface="Arial Black"/>
              </a:rPr>
              <a:t>Underneath the Christmas 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2987640" y="3284640"/>
            <a:ext cx="2998800" cy="338436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2592360" cy="3429000"/>
          </a:xfrm>
          <a:prstGeom prst="rect">
            <a:avLst/>
          </a:prstGeom>
          <a:ln w="0">
            <a:noFill/>
          </a:ln>
        </p:spPr>
      </p:pic>
      <p:pic>
        <p:nvPicPr>
          <p:cNvPr id="543" name="" descr=""/>
          <p:cNvPicPr/>
          <p:nvPr/>
        </p:nvPicPr>
        <p:blipFill>
          <a:blip r:embed="rId3"/>
          <a:stretch/>
        </p:blipFill>
        <p:spPr>
          <a:xfrm>
            <a:off x="6286680" y="3476520"/>
            <a:ext cx="2857320" cy="33814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Black"/>
              </a:rPr>
              <a:t>I don't need to hang my stocking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Arial Black"/>
              </a:rPr>
              <a:t>There upon the fireplac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1332000" y="2276640"/>
            <a:ext cx="6408720" cy="4176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Santa Claus won't make me happ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With a toy on Christmas 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12944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323640" y="40464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I just want you for my own</a:t>
            </a:r>
            <a:br>
              <a:rPr sz="2800"/>
            </a:b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More than you could ever kn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7416720" cy="3816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78544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ff33"/>
                </a:solidFill>
                <a:latin typeface="Arial Black"/>
              </a:rPr>
              <a:t>Make my wish come true</a:t>
            </a:r>
            <a:br>
              <a:rPr sz="4000"/>
            </a:br>
            <a:r>
              <a:rPr b="1" lang="es-ES" sz="4000" spc="-1" strike="noStrike">
                <a:solidFill>
                  <a:srgbClr val="66ff33"/>
                </a:solidFill>
                <a:latin typeface="Arial Black"/>
              </a:rPr>
              <a:t>All I want for Christmas is you..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1403280" y="2492280"/>
            <a:ext cx="5905440" cy="40323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2340000" y="1557360"/>
            <a:ext cx="122400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prstDash val="sysDot"/>
            <a:miter/>
          </a:ln>
        </p:spPr>
      </p:pic>
      <p:sp>
        <p:nvSpPr>
          <p:cNvPr id="554" name=""/>
          <p:cNvSpPr/>
          <p:nvPr/>
        </p:nvSpPr>
        <p:spPr>
          <a:xfrm>
            <a:off x="539640" y="3213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453960"/>
            <a:ext cx="914400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You baby</a:t>
            </a:r>
            <a:br>
              <a:rPr sz="2400"/>
            </a:br>
            <a:r>
              <a:rPr b="0" lang="es-ES" sz="2400" spc="-1" strike="noStrike">
                <a:solidFill>
                  <a:srgbClr val="ff0000"/>
                </a:solidFill>
                <a:latin typeface="Verdana"/>
              </a:rPr>
              <a:t>I won't ask for much this Christmas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c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I won't even wish for snow  I'm just gonna keep on waiting</a:t>
            </a:r>
            <a:br>
              <a:rPr sz="2400"/>
            </a:br>
            <a:r>
              <a:rPr b="0" lang="en-US" sz="2400" spc="-1" strike="noStrike">
                <a:solidFill>
                  <a:srgbClr val="33cc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"/>
          <p:cNvSpPr/>
          <p:nvPr/>
        </p:nvSpPr>
        <p:spPr>
          <a:xfrm>
            <a:off x="0" y="-36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Underneath the mistletoe I won't make a list and send it to the North Pole for Saint Nick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0" y="5942160"/>
            <a:ext cx="9144000" cy="916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I won't even stay awake to hear those magic reindeer click</a:t>
            </a:r>
            <a:br>
              <a:rPr sz="1800"/>
            </a:br>
            <a:r>
              <a:rPr b="1" lang="en-US" sz="1800" spc="-1" strike="noStrike">
                <a:solidFill>
                  <a:srgbClr val="ff9900"/>
                </a:solidFill>
                <a:latin typeface="Verdana"/>
              </a:rPr>
              <a:t>'Cause I just want you here tonight holding on to me so tight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12144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50920" y="333360"/>
            <a:ext cx="864216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What more can I do baby all I want for Christmas is you</a:t>
            </a:r>
            <a:br>
              <a:rPr sz="1800"/>
            </a:b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You...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198720" y="0"/>
            <a:ext cx="3309480" cy="146556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All the lights are shining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So brightly every where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And the sound of children's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Laughter fills the air</a:t>
            </a:r>
            <a:br>
              <a:rPr sz="1800"/>
            </a:br>
            <a:r>
              <a:rPr b="1" lang="en-US" sz="1800" spc="-1" strike="noStrike">
                <a:solidFill>
                  <a:srgbClr val="00ffff"/>
                </a:solidFill>
                <a:latin typeface="Verdana"/>
              </a:rPr>
              <a:t>And everyone is singing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0" y="0"/>
            <a:ext cx="2987640" cy="2562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I hear those sleigh bells ringing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Santa won't you bring me the one I really need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Won't you please bring my baby tome...</a:t>
            </a:r>
            <a:br>
              <a:rPr sz="1800"/>
            </a:b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Oh I don't want a lot for Christmas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6588000" y="0"/>
            <a:ext cx="2355840" cy="31114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his is all I'm asking f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 just want to see bab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anding right outside my door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h I just want him for my ow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re than you could ever know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0" y="0"/>
            <a:ext cx="4211640" cy="20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Make my wish come true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Baby all I want for Christmas is</a:t>
            </a: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You...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6699"/>
                </a:solidFill>
                <a:latin typeface="Verdana"/>
              </a:rPr>
              <a:t>All I want for Christmas is you baby...[Repeat]</a:t>
            </a:r>
            <a:br>
              <a:rPr sz="1800"/>
            </a:b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" descr="Campanas de Navidad Animado, Campanas Animacieons Gratis"/>
          <p:cNvPicPr/>
          <p:nvPr/>
        </p:nvPicPr>
        <p:blipFill>
          <a:blip r:embed="rId1"/>
          <a:stretch/>
        </p:blipFill>
        <p:spPr>
          <a:xfrm>
            <a:off x="3203640" y="2637000"/>
            <a:ext cx="3492360" cy="2474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 txBox="1"/>
          <p:nvPr/>
        </p:nvSpPr>
        <p:spPr>
          <a:xfrm>
            <a:off x="250920" y="981000"/>
            <a:ext cx="496872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¡Feliz Navida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468360" y="5300640"/>
            <a:ext cx="320040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erry Christmas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I don’t want a lot for christm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 Black"/>
              </a:rPr>
              <a:t>There’s just one thing i ne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2484360" y="1773360"/>
            <a:ext cx="4030920" cy="47847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I don’t care about presen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Underneath the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tre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2843280" y="3141720"/>
            <a:ext cx="6300720" cy="371628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395280" y="4581360"/>
            <a:ext cx="2158920" cy="1981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I don't need to hang my stocking</a:t>
            </a:r>
            <a:br>
              <a:rPr sz="4000"/>
            </a:br>
            <a:r>
              <a:rPr b="1" lang="en-US" sz="4000" spc="-1" strike="noStrike">
                <a:solidFill>
                  <a:srgbClr val="66ff33"/>
                </a:solidFill>
                <a:latin typeface="Arial Black"/>
              </a:rPr>
              <a:t>There upon the fireplac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340000" y="3284640"/>
            <a:ext cx="4048200" cy="31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684000" y="691920"/>
            <a:ext cx="80629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Santa Claus won't make me happ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33"/>
                </a:solidFill>
                <a:latin typeface="Arial Black"/>
              </a:rPr>
              <a:t>With a toy on Christmas da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2268360" y="2781360"/>
            <a:ext cx="5040360" cy="33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770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 Black"/>
              </a:rPr>
              <a:t>I just want you for my ow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6ff33"/>
                </a:solidFill>
                <a:latin typeface="Arial Black"/>
              </a:rPr>
              <a:t>More than you could ever know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977080" cy="42415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Make my wish come tru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All I want for Christma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ff33"/>
                </a:solidFill>
                <a:latin typeface="Arial Black"/>
              </a:rPr>
              <a:t>Is you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527640" cy="350028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3095640" cy="28083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8:56:23Z</dcterms:created>
  <dc:creator>pc10</dc:creator>
  <dc:description/>
  <dc:language>en-US</dc:language>
  <cp:lastModifiedBy>pc10</cp:lastModifiedBy>
  <dcterms:modified xsi:type="dcterms:W3CDTF">2011-12-21T15:50:59Z</dcterms:modified>
  <cp:revision>7</cp:revision>
  <dc:subject/>
  <dc:title> All I Want For Christmas Is You </dc:title>
</cp:coreProperties>
</file>